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6B4-A654-4289-8262-A6D2D7FE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8C9-E9E4-43D8-AAD7-A720E6FC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816-8ECA-43E2-A722-D6BFB948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B99-42E5-4689-AC94-8C060310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2EFA-BCA7-47A9-8A57-A53E967E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556D-9FD4-410C-B2FE-F0752AE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63EF-188B-4E5F-8BA8-BF89C481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AD4D-CCDE-4D98-A120-D5ABC6E6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D7D2-B57F-4EF4-A8CD-D8D639F7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CFA3-9CF1-47DD-A1CB-CC1C7C59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ED69-2323-4CEC-ACCE-895088FC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E06-922C-4083-A115-3AB80EEB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8D58-B9C9-449D-A4FA-98709F25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D23F-C02A-4588-A4A1-A9A8CACA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D371-2F5A-421E-9167-A3FFC426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8DE-4713-4A74-B843-2A8579B4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247B-531D-4342-B375-BFAB1900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BAAD-43AD-4DFA-998A-B1B5F6CE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DC32-298E-4C3F-8F69-F018CFA1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E771-EBBA-4CED-A203-75BD9246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4E49-34B5-4809-A432-45FCC5AC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0DF7-43B6-4391-871B-650407CC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E90-C8E3-4A11-B596-0BD5E2C3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3A76-4F6E-4619-8506-A50D0456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4A2E4-0966-4A65-B2C6-9B5A75A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D2B0-3413-48CA-9134-CA1B58D4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15F4-88D0-400C-8146-7CF617E9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DEA7-45E7-4826-9A88-38020B24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D659-97B1-4284-909D-A2F510F9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DCDA-C490-4FDB-B458-DE99AC16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9EC8-3AB8-4A69-881C-8FF9AD99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5E21-B90B-4A91-B148-60C31DCF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7B673-3105-4E88-9598-A59E12E6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B14-222F-4D95-87FB-0B020EC8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9B59-DE26-42E1-A9A6-9AD55E56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69E0-E7BE-4392-8063-ECC5BF76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83A5-2C38-4C64-A1C2-7C4FB58D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818CD-0E59-4C0D-AF87-6E0D3683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0015-F88E-4152-8A7C-865AF7A5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CBA2-C5C3-40C9-BFD4-8664A9E0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C6B8-081E-4332-96EB-96CDC2D6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58AF7-A1D5-433F-AD7E-8F9CFA65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8E3A-1E69-4DA0-8BCD-C40D257C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36839-F0C9-40AE-BDB7-C4BD379E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4AF-65CC-44D2-9020-17789C75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D4B2-40E7-4988-8064-61F86E77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F4AE-103B-4B03-9C4F-F4D7EC5B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6211-6643-4B23-9995-C684AB6F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4312-D285-4393-ACB7-C9D863FD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6499-685F-4841-A8F8-8F6BA768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E033-C890-408A-9E58-B48CBDD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75FD3-2F6F-40A2-AD03-D8CCB6F5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BA0DE-F890-44F9-8E50-D51F858D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79A2D-9EA0-4504-B148-C8CD55B1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B6FCA-1E81-4D66-9284-822A768A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158-70B5-449C-AC4B-4DB9F618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96E81-1644-427A-9DFC-924F1275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7EA-941F-4091-89B8-999E5694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AE6-D650-4E40-B9BE-0E67DDDB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2B8-5071-44EA-BC26-5F10F271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2F39-3A2C-47EF-811D-A6620DC9AE2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809-63FE-428C-BAF5-7E7550817E6E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0BC6-77B0-4516-861D-81B97DE3EFB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F55A-FAC0-4B62-A041-FAECD254F920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8A2-2E0C-4574-9786-551E4DBC0C0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Tuesday, Feb. 9, 2010    6 - 8 pm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124080" y="487692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ed &amp; Led by Professional Learn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il Nalven and Ayala Rybak, Lead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an Block, Education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san Ticker, LOMED Consul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re the big ideas that pop out? Are there any them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does this tell us about the situations that have the greatest impact on our lives and shape who we are as Jew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f education in our congregation purposely set out to create these kinds of experiences with these characteristic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f education in our congregation purposely set out to create these kinds of experiences with these characteristic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ould the results be different? What might be the impac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the children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their parents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our congregation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ourselves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earners will be on a journey of tikkun olam (mending the world) guided by a Jewish moral compas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arners will develop the knowledge, the sense of belonging, the values/beliefs and skills and habits to contribute to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mending the world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mentary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wish tradition serves as a guide to understanding issues of social justice and social action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chese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by working on these issues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arners who achieve this priority goal engage in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world repair) through learning value concepts and their connection to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mitzvo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by studying Jewish sources, acting and reflecting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06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457200" y="2741760"/>
            <a:ext cx="72388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pic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read of Affliction – Ha Lachma Any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Tube Vide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werful Learning Pl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stands out for you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3" descr=""/>
          <p:cNvPicPr/>
          <p:nvPr/>
        </p:nvPicPr>
        <p:blipFill>
          <a:blip r:embed="rId1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Light"/>
              </a:rPr>
              <a:t>learner  outcomes measurement  for effective  educational desig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5" name="Picture Placeholder 6" descr="Stefanie photo 1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culty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rch 16 with Haz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ril 13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y 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aching with Tikkun Olam in min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nection Ques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ext Stu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re Convers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800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ority Goal – Tikkun Ola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morable Experien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ole Person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Cognitive Learning: Know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ffective Learning: Believing and Belong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uthentic Living: Do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understand the Priority Goal and will be able to explain it to others (parents and children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reflect on their own memorable Jewish experiences and see them as a model of what they could provide for their own learne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be inspired by the Priority Go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[Future Sessions] Teachers will identify one lesson where they can incorporate the concept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nto a learning experienc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[Future Sessions] Teachers will develop learner outcomes that include affective realm (KDBB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Please share your favorite thing to teach and why it is special to you.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morable Jewish Learning Experie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here: Identify the Contex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hat: Describe the Experie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hy: Explain why it was memorable to you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re the big ideas that pop out? Are there any them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22:03:18Z</dcterms:created>
  <dc:creator>tickers</dc:creator>
  <dc:description/>
  <dc:language>en-US</dc:language>
  <cp:lastModifiedBy>tickers</cp:lastModifiedBy>
  <dcterms:modified xsi:type="dcterms:W3CDTF">2010-03-12T00:31:24Z</dcterms:modified>
  <cp:revision>9</cp:revision>
  <dc:subject/>
  <dc:title>KTI Faculty LOMED Professional Learning </dc:title>
</cp:coreProperties>
</file>